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0518-4481-460C-B748-944049A3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C397-26BA-4F0F-A559-2B9622CC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C2E-6A50-45A8-83D3-EB455E46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C5F7-E703-4EDA-95B9-551F9D52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D3F9-6097-4C5C-920B-53F7ED0C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19F1-B6D0-47B6-9B93-7A585CE5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A991-CD2D-47D0-8E25-6B3B3C55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B298-B5C3-43E2-819D-199FAE08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585C-4ABE-48A6-BC8F-E7E03A9D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B87E-095E-4518-BC3A-4EABCAFC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544D-76C8-48F1-A4B3-933A0BBE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5D3-4B94-4814-A8F1-0E12D1DA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FCB5-8FDD-428E-9CCC-B54DD5DA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6D9B-8EC2-4C32-9649-BB81A35F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4090-C589-43D5-9D2D-1F87A2F8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11D0-FCE4-467A-BEAD-0D01152E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1AA3-06B7-4566-923C-B61154F9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D27-3B52-4116-BC1A-AEAA01A9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8937-CAA9-46B4-A11D-8ED05ED2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271-ADEE-4309-A2CD-2C2179C6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6F76-B125-4D78-8455-6862EF1A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5F7E-8E44-44C2-93F5-79D662B8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976-0739-4CF5-8E87-5BEC7A2D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2680-CB00-4E16-873D-8170875F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100000">
                    <a:srgbClr val="00007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e"/>
                  </a:gs>
                  <a:gs pos="50000">
                    <a:srgbClr val="00007a"/>
                  </a:gs>
                  <a:gs pos="100000">
                    <a:srgbClr val="00006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1DE8-2EC3-4FC5-BC89-4F5602906C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100000">
                    <a:srgbClr val="00007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e"/>
                  </a:gs>
                  <a:gs pos="50000">
                    <a:srgbClr val="00007a"/>
                  </a:gs>
                  <a:gs pos="100000">
                    <a:srgbClr val="00006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AD00-4C21-491A-B110-5564A53C39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Tahoma"/>
              </a:rPr>
              <a:t>Fingerprinting</a:t>
            </a:r>
            <a:endParaRPr b="0" lang="en-US" sz="66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385" name="" descr="GDR Fingerprinting"/>
          <p:cNvPicPr/>
          <p:nvPr/>
        </p:nvPicPr>
        <p:blipFill>
          <a:blip r:embed="rId1"/>
          <a:stretch/>
        </p:blipFill>
        <p:spPr>
          <a:xfrm>
            <a:off x="2895480" y="2590920"/>
            <a:ext cx="29718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051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Anatomy of a Loop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3524400" y="4464000"/>
            <a:ext cx="190440" cy="571680"/>
          </a:xfrm>
          <a:custGeom>
            <a:avLst/>
            <a:gdLst/>
            <a:ahLst/>
            <a:rect l="l" t="t" r="r" b="b"/>
            <a:pathLst>
              <a:path w="120" h="360">
                <a:moveTo>
                  <a:pt x="0" y="360"/>
                </a:moveTo>
                <a:cubicBezTo>
                  <a:pt x="0" y="360"/>
                  <a:pt x="36" y="348"/>
                  <a:pt x="36" y="348"/>
                </a:cubicBezTo>
                <a:cubicBezTo>
                  <a:pt x="44" y="345"/>
                  <a:pt x="60" y="340"/>
                  <a:pt x="60" y="340"/>
                </a:cubicBezTo>
                <a:cubicBezTo>
                  <a:pt x="71" y="324"/>
                  <a:pt x="90" y="310"/>
                  <a:pt x="96" y="292"/>
                </a:cubicBezTo>
                <a:cubicBezTo>
                  <a:pt x="99" y="284"/>
                  <a:pt x="104" y="268"/>
                  <a:pt x="104" y="268"/>
                </a:cubicBezTo>
                <a:lnTo>
                  <a:pt x="120" y="0"/>
                </a:lnTo>
              </a:path>
            </a:pathLst>
          </a:custGeom>
          <a:noFill/>
          <a:ln w="63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25960" y="5373720"/>
            <a:ext cx="1106280" cy="291960"/>
          </a:xfrm>
          <a:custGeom>
            <a:avLst/>
            <a:gdLst/>
            <a:ahLst/>
            <a:rect l="l" t="t" r="r" b="b"/>
            <a:pathLst>
              <a:path w="696" h="185">
                <a:moveTo>
                  <a:pt x="0" y="25"/>
                </a:moveTo>
                <a:cubicBezTo>
                  <a:pt x="47" y="9"/>
                  <a:pt x="96" y="11"/>
                  <a:pt x="144" y="1"/>
                </a:cubicBezTo>
                <a:cubicBezTo>
                  <a:pt x="200" y="3"/>
                  <a:pt x="217" y="0"/>
                  <a:pt x="260" y="9"/>
                </a:cubicBezTo>
                <a:cubicBezTo>
                  <a:pt x="338" y="25"/>
                  <a:pt x="414" y="50"/>
                  <a:pt x="492" y="61"/>
                </a:cubicBezTo>
                <a:cubicBezTo>
                  <a:pt x="527" y="73"/>
                  <a:pt x="553" y="97"/>
                  <a:pt x="588" y="109"/>
                </a:cubicBezTo>
                <a:cubicBezTo>
                  <a:pt x="601" y="122"/>
                  <a:pt x="643" y="151"/>
                  <a:pt x="660" y="157"/>
                </a:cubicBezTo>
                <a:cubicBezTo>
                  <a:pt x="666" y="163"/>
                  <a:pt x="696" y="184"/>
                  <a:pt x="696" y="185"/>
                </a:cubicBezTo>
              </a:path>
            </a:pathLst>
          </a:custGeom>
          <a:noFill/>
          <a:ln w="63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384720" y="5168880"/>
            <a:ext cx="482400" cy="120600"/>
          </a:xfrm>
          <a:custGeom>
            <a:avLst/>
            <a:gdLst/>
            <a:ahLst/>
            <a:rect l="l" t="t" r="r" b="b"/>
            <a:pathLst>
              <a:path w="304" h="76">
                <a:moveTo>
                  <a:pt x="0" y="64"/>
                </a:moveTo>
                <a:cubicBezTo>
                  <a:pt x="15" y="59"/>
                  <a:pt x="28" y="52"/>
                  <a:pt x="44" y="48"/>
                </a:cubicBezTo>
                <a:cubicBezTo>
                  <a:pt x="74" y="28"/>
                  <a:pt x="98" y="11"/>
                  <a:pt x="132" y="0"/>
                </a:cubicBezTo>
                <a:cubicBezTo>
                  <a:pt x="159" y="4"/>
                  <a:pt x="195" y="6"/>
                  <a:pt x="220" y="20"/>
                </a:cubicBezTo>
                <a:cubicBezTo>
                  <a:pt x="250" y="37"/>
                  <a:pt x="273" y="60"/>
                  <a:pt x="304" y="76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20680800">
            <a:off x="5330880" y="2958840"/>
            <a:ext cx="382680" cy="1066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ypes of Loop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480060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Radial Lo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p opens towards thum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419360" y="1218960"/>
            <a:ext cx="472428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Ulnar Loo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p opens towards pink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3738600" cy="426708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5105520" y="2286000"/>
            <a:ext cx="3654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WHORL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30%-35%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popu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have type lines and a </a:t>
            </a: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minim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wo (2) delta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 typ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in Whor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er Pocket Whor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uble Loop Whor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ident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ypes of Whorl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41940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Plain Whor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419360" y="1295280"/>
            <a:ext cx="44226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Center Pocket Whor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198680" cy="45720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5370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Plain vs. Center Pocket Whorl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have at least one ridge that makes a </a:t>
            </a:r>
            <a:r>
              <a:rPr b="0" lang="en-US" sz="3200" spc="-1" strike="noStrike" u="sng">
                <a:solidFill>
                  <a:srgbClr val="cc00cc"/>
                </a:solidFill>
                <a:uFillTx/>
                <a:latin typeface="Tahoma"/>
              </a:rPr>
              <a:t>complete circu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3200400" cy="28684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2962440" cy="31240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457200" y="5334120"/>
            <a:ext cx="45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ahoma"/>
              </a:rPr>
              <a:t>Draw a line through the deltas.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181480" y="5334120"/>
            <a:ext cx="320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enter Pocket line does </a:t>
            </a:r>
            <a:r>
              <a:rPr b="0" lang="en-US" sz="2200" spc="-1" strike="noStrike">
                <a:solidFill>
                  <a:srgbClr val="ff33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touch circuit ridge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33720" y="3048120"/>
            <a:ext cx="761760" cy="990360"/>
          </a:xfrm>
          <a:prstGeom prst="ellipse">
            <a:avLst/>
          </a:prstGeom>
          <a:noFill/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3875040"/>
            <a:ext cx="171720" cy="68400"/>
          </a:xfrm>
          <a:custGeom>
            <a:avLst/>
            <a:gdLst/>
            <a:ahLst/>
            <a:rect l="l" t="t" r="r" b="b"/>
            <a:pathLst>
              <a:path w="108" h="43">
                <a:moveTo>
                  <a:pt x="108" y="43"/>
                </a:moveTo>
                <a:cubicBezTo>
                  <a:pt x="81" y="38"/>
                  <a:pt x="90" y="28"/>
                  <a:pt x="72" y="16"/>
                </a:cubicBezTo>
                <a:cubicBezTo>
                  <a:pt x="67" y="0"/>
                  <a:pt x="37" y="12"/>
                  <a:pt x="21" y="13"/>
                </a:cubicBezTo>
                <a:cubicBezTo>
                  <a:pt x="6" y="18"/>
                  <a:pt x="13" y="13"/>
                  <a:pt x="6" y="34"/>
                </a:cubicBezTo>
                <a:cubicBezTo>
                  <a:pt x="5" y="37"/>
                  <a:pt x="0" y="43"/>
                  <a:pt x="0" y="43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924200" y="4033800"/>
            <a:ext cx="133200" cy="104760"/>
          </a:xfrm>
          <a:custGeom>
            <a:avLst/>
            <a:gdLst/>
            <a:ahLst/>
            <a:rect l="l" t="t" r="r" b="b"/>
            <a:pathLst>
              <a:path w="84" h="66">
                <a:moveTo>
                  <a:pt x="0" y="66"/>
                </a:moveTo>
                <a:cubicBezTo>
                  <a:pt x="23" y="51"/>
                  <a:pt x="22" y="15"/>
                  <a:pt x="45" y="0"/>
                </a:cubicBezTo>
                <a:cubicBezTo>
                  <a:pt x="56" y="11"/>
                  <a:pt x="65" y="51"/>
                  <a:pt x="84" y="51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15080" y="3652920"/>
            <a:ext cx="176040" cy="95040"/>
          </a:xfrm>
          <a:custGeom>
            <a:avLst/>
            <a:gdLst/>
            <a:ahLst/>
            <a:rect l="l" t="t" r="r" b="b"/>
            <a:pathLst>
              <a:path w="111" h="60">
                <a:moveTo>
                  <a:pt x="0" y="60"/>
                </a:moveTo>
                <a:cubicBezTo>
                  <a:pt x="11" y="57"/>
                  <a:pt x="13" y="58"/>
                  <a:pt x="21" y="51"/>
                </a:cubicBezTo>
                <a:cubicBezTo>
                  <a:pt x="27" y="45"/>
                  <a:pt x="39" y="33"/>
                  <a:pt x="39" y="33"/>
                </a:cubicBezTo>
                <a:cubicBezTo>
                  <a:pt x="47" y="10"/>
                  <a:pt x="35" y="37"/>
                  <a:pt x="51" y="18"/>
                </a:cubicBezTo>
                <a:cubicBezTo>
                  <a:pt x="55" y="13"/>
                  <a:pt x="56" y="6"/>
                  <a:pt x="60" y="0"/>
                </a:cubicBezTo>
                <a:cubicBezTo>
                  <a:pt x="73" y="4"/>
                  <a:pt x="73" y="14"/>
                  <a:pt x="84" y="21"/>
                </a:cubicBezTo>
                <a:cubicBezTo>
                  <a:pt x="93" y="35"/>
                  <a:pt x="100" y="43"/>
                  <a:pt x="111" y="54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281720" y="3103560"/>
            <a:ext cx="209520" cy="120600"/>
          </a:xfrm>
          <a:custGeom>
            <a:avLst/>
            <a:gdLst/>
            <a:ahLst/>
            <a:rect l="l" t="t" r="r" b="b"/>
            <a:pathLst>
              <a:path w="132" h="76">
                <a:moveTo>
                  <a:pt x="132" y="76"/>
                </a:moveTo>
                <a:cubicBezTo>
                  <a:pt x="127" y="61"/>
                  <a:pt x="117" y="52"/>
                  <a:pt x="108" y="40"/>
                </a:cubicBezTo>
                <a:cubicBezTo>
                  <a:pt x="104" y="34"/>
                  <a:pt x="100" y="28"/>
                  <a:pt x="96" y="22"/>
                </a:cubicBezTo>
                <a:cubicBezTo>
                  <a:pt x="94" y="19"/>
                  <a:pt x="95" y="15"/>
                  <a:pt x="93" y="13"/>
                </a:cubicBezTo>
                <a:cubicBezTo>
                  <a:pt x="90" y="10"/>
                  <a:pt x="85" y="11"/>
                  <a:pt x="81" y="10"/>
                </a:cubicBezTo>
                <a:cubicBezTo>
                  <a:pt x="66" y="0"/>
                  <a:pt x="59" y="1"/>
                  <a:pt x="42" y="7"/>
                </a:cubicBezTo>
                <a:cubicBezTo>
                  <a:pt x="36" y="16"/>
                  <a:pt x="18" y="28"/>
                  <a:pt x="18" y="28"/>
                </a:cubicBezTo>
                <a:cubicBezTo>
                  <a:pt x="11" y="38"/>
                  <a:pt x="7" y="36"/>
                  <a:pt x="0" y="43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9480" y="5791320"/>
            <a:ext cx="381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lain – hits the circuit ridg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ypes of Whorl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Double Loop Whorl</a:t>
            </a: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Accid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3606840" cy="43434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3971880" cy="426708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936720" y="2895480"/>
            <a:ext cx="2487600" cy="2827440"/>
          </a:xfrm>
          <a:custGeom>
            <a:avLst/>
            <a:gdLst/>
            <a:ahLst/>
            <a:rect l="l" t="t" r="r" b="b"/>
            <a:pathLst>
              <a:path w="1567" h="1781">
                <a:moveTo>
                  <a:pt x="581" y="0"/>
                </a:moveTo>
                <a:cubicBezTo>
                  <a:pt x="543" y="38"/>
                  <a:pt x="510" y="85"/>
                  <a:pt x="480" y="130"/>
                </a:cubicBezTo>
                <a:cubicBezTo>
                  <a:pt x="475" y="146"/>
                  <a:pt x="456" y="173"/>
                  <a:pt x="456" y="173"/>
                </a:cubicBezTo>
                <a:cubicBezTo>
                  <a:pt x="449" y="198"/>
                  <a:pt x="432" y="223"/>
                  <a:pt x="418" y="245"/>
                </a:cubicBezTo>
                <a:cubicBezTo>
                  <a:pt x="406" y="264"/>
                  <a:pt x="403" y="288"/>
                  <a:pt x="389" y="307"/>
                </a:cubicBezTo>
                <a:cubicBezTo>
                  <a:pt x="375" y="348"/>
                  <a:pt x="361" y="392"/>
                  <a:pt x="336" y="427"/>
                </a:cubicBezTo>
                <a:cubicBezTo>
                  <a:pt x="331" y="451"/>
                  <a:pt x="316" y="466"/>
                  <a:pt x="312" y="490"/>
                </a:cubicBezTo>
                <a:cubicBezTo>
                  <a:pt x="305" y="535"/>
                  <a:pt x="296" y="600"/>
                  <a:pt x="269" y="638"/>
                </a:cubicBezTo>
                <a:cubicBezTo>
                  <a:pt x="261" y="663"/>
                  <a:pt x="256" y="688"/>
                  <a:pt x="240" y="710"/>
                </a:cubicBezTo>
                <a:cubicBezTo>
                  <a:pt x="233" y="762"/>
                  <a:pt x="237" y="837"/>
                  <a:pt x="221" y="883"/>
                </a:cubicBezTo>
                <a:cubicBezTo>
                  <a:pt x="214" y="935"/>
                  <a:pt x="219" y="1008"/>
                  <a:pt x="245" y="1056"/>
                </a:cubicBezTo>
                <a:cubicBezTo>
                  <a:pt x="255" y="1076"/>
                  <a:pt x="269" y="1097"/>
                  <a:pt x="288" y="1109"/>
                </a:cubicBezTo>
                <a:cubicBezTo>
                  <a:pt x="301" y="1118"/>
                  <a:pt x="332" y="1128"/>
                  <a:pt x="332" y="1128"/>
                </a:cubicBezTo>
                <a:cubicBezTo>
                  <a:pt x="406" y="1123"/>
                  <a:pt x="387" y="1125"/>
                  <a:pt x="432" y="1109"/>
                </a:cubicBezTo>
                <a:cubicBezTo>
                  <a:pt x="456" y="1085"/>
                  <a:pt x="478" y="1065"/>
                  <a:pt x="500" y="1037"/>
                </a:cubicBezTo>
                <a:cubicBezTo>
                  <a:pt x="506" y="1013"/>
                  <a:pt x="523" y="990"/>
                  <a:pt x="538" y="970"/>
                </a:cubicBezTo>
                <a:cubicBezTo>
                  <a:pt x="543" y="954"/>
                  <a:pt x="546" y="937"/>
                  <a:pt x="552" y="922"/>
                </a:cubicBezTo>
                <a:cubicBezTo>
                  <a:pt x="559" y="906"/>
                  <a:pt x="570" y="891"/>
                  <a:pt x="576" y="874"/>
                </a:cubicBezTo>
                <a:cubicBezTo>
                  <a:pt x="583" y="855"/>
                  <a:pt x="584" y="843"/>
                  <a:pt x="596" y="826"/>
                </a:cubicBezTo>
                <a:cubicBezTo>
                  <a:pt x="604" y="796"/>
                  <a:pt x="617" y="776"/>
                  <a:pt x="629" y="749"/>
                </a:cubicBezTo>
                <a:cubicBezTo>
                  <a:pt x="651" y="700"/>
                  <a:pt x="672" y="653"/>
                  <a:pt x="696" y="605"/>
                </a:cubicBezTo>
                <a:cubicBezTo>
                  <a:pt x="713" y="571"/>
                  <a:pt x="731" y="535"/>
                  <a:pt x="759" y="509"/>
                </a:cubicBezTo>
                <a:cubicBezTo>
                  <a:pt x="768" y="489"/>
                  <a:pt x="781" y="474"/>
                  <a:pt x="792" y="456"/>
                </a:cubicBezTo>
                <a:cubicBezTo>
                  <a:pt x="798" y="446"/>
                  <a:pt x="812" y="427"/>
                  <a:pt x="812" y="427"/>
                </a:cubicBezTo>
                <a:cubicBezTo>
                  <a:pt x="838" y="336"/>
                  <a:pt x="915" y="274"/>
                  <a:pt x="1004" y="250"/>
                </a:cubicBezTo>
                <a:cubicBezTo>
                  <a:pt x="1057" y="251"/>
                  <a:pt x="1109" y="250"/>
                  <a:pt x="1162" y="254"/>
                </a:cubicBezTo>
                <a:cubicBezTo>
                  <a:pt x="1172" y="255"/>
                  <a:pt x="1191" y="264"/>
                  <a:pt x="1191" y="264"/>
                </a:cubicBezTo>
                <a:cubicBezTo>
                  <a:pt x="1208" y="276"/>
                  <a:pt x="1229" y="286"/>
                  <a:pt x="1248" y="293"/>
                </a:cubicBezTo>
                <a:cubicBezTo>
                  <a:pt x="1277" y="320"/>
                  <a:pt x="1319" y="341"/>
                  <a:pt x="1354" y="360"/>
                </a:cubicBezTo>
                <a:cubicBezTo>
                  <a:pt x="1365" y="366"/>
                  <a:pt x="1377" y="372"/>
                  <a:pt x="1388" y="379"/>
                </a:cubicBezTo>
                <a:cubicBezTo>
                  <a:pt x="1398" y="385"/>
                  <a:pt x="1416" y="398"/>
                  <a:pt x="1416" y="398"/>
                </a:cubicBezTo>
                <a:cubicBezTo>
                  <a:pt x="1444" y="440"/>
                  <a:pt x="1407" y="389"/>
                  <a:pt x="1440" y="422"/>
                </a:cubicBezTo>
                <a:cubicBezTo>
                  <a:pt x="1458" y="440"/>
                  <a:pt x="1479" y="483"/>
                  <a:pt x="1493" y="504"/>
                </a:cubicBezTo>
                <a:cubicBezTo>
                  <a:pt x="1510" y="530"/>
                  <a:pt x="1512" y="562"/>
                  <a:pt x="1527" y="590"/>
                </a:cubicBezTo>
                <a:cubicBezTo>
                  <a:pt x="1531" y="616"/>
                  <a:pt x="1534" y="642"/>
                  <a:pt x="1541" y="667"/>
                </a:cubicBezTo>
                <a:cubicBezTo>
                  <a:pt x="1548" y="723"/>
                  <a:pt x="1559" y="778"/>
                  <a:pt x="1565" y="835"/>
                </a:cubicBezTo>
                <a:cubicBezTo>
                  <a:pt x="1562" y="915"/>
                  <a:pt x="1567" y="983"/>
                  <a:pt x="1541" y="1056"/>
                </a:cubicBezTo>
                <a:cubicBezTo>
                  <a:pt x="1530" y="1137"/>
                  <a:pt x="1493" y="1254"/>
                  <a:pt x="1464" y="1334"/>
                </a:cubicBezTo>
                <a:cubicBezTo>
                  <a:pt x="1452" y="1366"/>
                  <a:pt x="1446" y="1407"/>
                  <a:pt x="1426" y="1435"/>
                </a:cubicBezTo>
                <a:cubicBezTo>
                  <a:pt x="1398" y="1520"/>
                  <a:pt x="1344" y="1568"/>
                  <a:pt x="1272" y="1618"/>
                </a:cubicBezTo>
                <a:cubicBezTo>
                  <a:pt x="1242" y="1638"/>
                  <a:pt x="1210" y="1673"/>
                  <a:pt x="1176" y="1685"/>
                </a:cubicBezTo>
                <a:cubicBezTo>
                  <a:pt x="1117" y="1706"/>
                  <a:pt x="1057" y="1732"/>
                  <a:pt x="994" y="1742"/>
                </a:cubicBezTo>
                <a:cubicBezTo>
                  <a:pt x="885" y="1781"/>
                  <a:pt x="741" y="1768"/>
                  <a:pt x="634" y="1771"/>
                </a:cubicBezTo>
                <a:cubicBezTo>
                  <a:pt x="426" y="1768"/>
                  <a:pt x="209" y="1752"/>
                  <a:pt x="0" y="1752"/>
                </a:cubicBezTo>
              </a:path>
            </a:pathLst>
          </a:custGeom>
          <a:noFill/>
          <a:ln w="63360">
            <a:solidFill>
              <a:srgbClr val="6f64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ARCHE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5%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popu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Tahoma"/>
              </a:rPr>
              <a:t>Simple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all fingerprint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dges enter on one side of print and exit on the ot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ight or dramatic rise in the cen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in Arch vs. Tented 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type lines or delt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ypes of Arche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Plain Ar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Tented 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191120" cy="415116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635640" cy="4267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5619600" y="4248000"/>
            <a:ext cx="2413080" cy="1270080"/>
          </a:xfrm>
          <a:custGeom>
            <a:avLst/>
            <a:gdLst/>
            <a:ahLst/>
            <a:rect l="l" t="t" r="r" b="b"/>
            <a:pathLst>
              <a:path w="1520" h="800">
                <a:moveTo>
                  <a:pt x="0" y="800"/>
                </a:moveTo>
                <a:cubicBezTo>
                  <a:pt x="12" y="788"/>
                  <a:pt x="24" y="776"/>
                  <a:pt x="36" y="764"/>
                </a:cubicBezTo>
                <a:cubicBezTo>
                  <a:pt x="39" y="761"/>
                  <a:pt x="44" y="762"/>
                  <a:pt x="48" y="760"/>
                </a:cubicBezTo>
                <a:cubicBezTo>
                  <a:pt x="71" y="747"/>
                  <a:pt x="98" y="731"/>
                  <a:pt x="120" y="716"/>
                </a:cubicBezTo>
                <a:cubicBezTo>
                  <a:pt x="138" y="704"/>
                  <a:pt x="149" y="687"/>
                  <a:pt x="164" y="672"/>
                </a:cubicBezTo>
                <a:cubicBezTo>
                  <a:pt x="177" y="659"/>
                  <a:pt x="197" y="646"/>
                  <a:pt x="212" y="636"/>
                </a:cubicBezTo>
                <a:cubicBezTo>
                  <a:pt x="239" y="618"/>
                  <a:pt x="266" y="586"/>
                  <a:pt x="284" y="560"/>
                </a:cubicBezTo>
                <a:cubicBezTo>
                  <a:pt x="293" y="547"/>
                  <a:pt x="320" y="528"/>
                  <a:pt x="320" y="528"/>
                </a:cubicBezTo>
                <a:cubicBezTo>
                  <a:pt x="337" y="493"/>
                  <a:pt x="392" y="451"/>
                  <a:pt x="424" y="424"/>
                </a:cubicBezTo>
                <a:cubicBezTo>
                  <a:pt x="440" y="410"/>
                  <a:pt x="446" y="392"/>
                  <a:pt x="464" y="380"/>
                </a:cubicBezTo>
                <a:cubicBezTo>
                  <a:pt x="477" y="360"/>
                  <a:pt x="491" y="337"/>
                  <a:pt x="508" y="320"/>
                </a:cubicBezTo>
                <a:cubicBezTo>
                  <a:pt x="516" y="295"/>
                  <a:pt x="524" y="269"/>
                  <a:pt x="532" y="244"/>
                </a:cubicBezTo>
                <a:cubicBezTo>
                  <a:pt x="534" y="238"/>
                  <a:pt x="540" y="233"/>
                  <a:pt x="544" y="228"/>
                </a:cubicBezTo>
                <a:cubicBezTo>
                  <a:pt x="567" y="195"/>
                  <a:pt x="594" y="168"/>
                  <a:pt x="612" y="132"/>
                </a:cubicBezTo>
                <a:cubicBezTo>
                  <a:pt x="632" y="93"/>
                  <a:pt x="630" y="42"/>
                  <a:pt x="644" y="0"/>
                </a:cubicBezTo>
                <a:cubicBezTo>
                  <a:pt x="652" y="38"/>
                  <a:pt x="673" y="71"/>
                  <a:pt x="692" y="104"/>
                </a:cubicBezTo>
                <a:cubicBezTo>
                  <a:pt x="704" y="125"/>
                  <a:pt x="716" y="155"/>
                  <a:pt x="736" y="168"/>
                </a:cubicBezTo>
                <a:cubicBezTo>
                  <a:pt x="742" y="185"/>
                  <a:pt x="751" y="189"/>
                  <a:pt x="764" y="200"/>
                </a:cubicBezTo>
                <a:cubicBezTo>
                  <a:pt x="802" y="233"/>
                  <a:pt x="843" y="263"/>
                  <a:pt x="880" y="296"/>
                </a:cubicBezTo>
                <a:cubicBezTo>
                  <a:pt x="909" y="322"/>
                  <a:pt x="960" y="380"/>
                  <a:pt x="996" y="392"/>
                </a:cubicBezTo>
                <a:cubicBezTo>
                  <a:pt x="1043" y="408"/>
                  <a:pt x="1084" y="434"/>
                  <a:pt x="1128" y="456"/>
                </a:cubicBezTo>
                <a:cubicBezTo>
                  <a:pt x="1153" y="469"/>
                  <a:pt x="1172" y="499"/>
                  <a:pt x="1200" y="508"/>
                </a:cubicBezTo>
                <a:cubicBezTo>
                  <a:pt x="1214" y="513"/>
                  <a:pt x="1227" y="524"/>
                  <a:pt x="1240" y="528"/>
                </a:cubicBezTo>
                <a:cubicBezTo>
                  <a:pt x="1271" y="538"/>
                  <a:pt x="1304" y="544"/>
                  <a:pt x="1336" y="552"/>
                </a:cubicBezTo>
                <a:cubicBezTo>
                  <a:pt x="1348" y="555"/>
                  <a:pt x="1357" y="564"/>
                  <a:pt x="1368" y="568"/>
                </a:cubicBezTo>
                <a:cubicBezTo>
                  <a:pt x="1416" y="584"/>
                  <a:pt x="1468" y="604"/>
                  <a:pt x="1520" y="604"/>
                </a:cubicBezTo>
              </a:path>
            </a:pathLst>
          </a:custGeom>
          <a:noFill/>
          <a:ln w="63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Fingerprint Analysi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5406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o match a suspect to a crime sce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ased upon general shape or patter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es a point by point match of minutia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erage fingerprint has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50 minutia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8 to 16 match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dequate in cou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statistical studies regarding locations of common minutiae in popul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9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Minutiae</a:t>
            </a: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idg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raised points on a pri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Grov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urrow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low points on a pri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inutiae (Ridge characteristic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dge End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rt Ri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fur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land or D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closure (or Lak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osso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4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3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Why do we have fingerprints?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Friction Ridge Sk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a firm grasp &amp; resists slipp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on the palm side of fingers &amp; hands, soles of feet and t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ation occurs dur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etal develop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gerprints do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hange over a life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cal twins have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differ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ingerprint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gerprints grow back when damag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435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3733920" y="4495680"/>
            <a:ext cx="30456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62520"/>
            <a:ext cx="304920" cy="533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4182200">
            <a:off x="5488920" y="2511000"/>
            <a:ext cx="45108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19720" y="1752480"/>
            <a:ext cx="3045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334120" y="4572000"/>
            <a:ext cx="3045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7403400">
            <a:off x="3657600" y="1828800"/>
            <a:ext cx="45720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1188600">
            <a:off x="5714640" y="4723920"/>
            <a:ext cx="30492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698400">
            <a:off x="4495320" y="3657600"/>
            <a:ext cx="30492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05320" y="3886200"/>
            <a:ext cx="3045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0" y="335268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86400" y="297180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235400" cy="43434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3713400" cy="44193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Minutiae Mapping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233960" cy="43434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4000680" cy="4572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omparing Minutiae Map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Latent Fingerprint Removal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ends up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Type of surf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ous vs. Nonpor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ft vs. H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Tahoma"/>
              </a:rPr>
              <a:t>How the print was lef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sible vs. Invisible (latent prin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Amount of print avail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4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2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4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Latent Print Removal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erglue Fu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ino Acid Re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odine Fu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Dusting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rfac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, nonporo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Chemic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bon black pow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th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st on powder with brus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ove excess powder (puff of ai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ft” print with ta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 on index car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35816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3" dur="500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Superglue Fuming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rfac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, nonporo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Chemic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yanoacryl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th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 print evidence in sealed contai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 few drops of superglue + he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s 2-3 hours; chemical fumes stick to pri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977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Amino Acid Reaction</a:t>
            </a: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rfac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o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Chemic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nhydr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th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ray or dab chemical onto print are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 to dry (2-3 hour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s </a:t>
            </a:r>
            <a:r>
              <a:rPr b="0" lang="en-US" sz="2800" spc="-1" strike="noStrike">
                <a:solidFill>
                  <a:srgbClr val="ff66ff"/>
                </a:solidFill>
                <a:latin typeface="Tahoma"/>
              </a:rPr>
              <a:t>pin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hen it reacts with protei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ly effective on old prints (up to 15 years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4290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3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2" dur="5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6" dur="500"/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8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ree (3) Types of Fingerprint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a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nvisible fingerpri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ed when sweat, oil, amino acids, &amp; water are deposited in the formation of the ridge patter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la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essed into soft materi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m, wax, soap, dust, putty, etc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Visible or Pa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gerprint left in a visible materi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k, grease, blood, paint, etc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6858000" y="3276720"/>
            <a:ext cx="18972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Iodine Fuming</a:t>
            </a: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5406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rfac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o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Chemic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odine crystals (soli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th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 print evidence in sealed contai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Subli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iodine cryst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id to GA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pors attach to pri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permanent! Must photograph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415200" y="609480"/>
            <a:ext cx="2388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5" dur="5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Fingerprint Composition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w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ccrine sweat gl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 a “watery” swe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Apocrine sweat gl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 an “oily” sw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p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Skin Anatomy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piderm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p Layer of Skin (2 mm in finger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ins keratin, melanin, &amp; immune cel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erm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ck layer of connective tiss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ins blood vessels, nerves, muscles, oil &amp; sweat glands, &amp; hair follic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apilla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undary between layers; forms ridge patter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Illustration: Normal Skin"/>
          <p:cNvPicPr/>
          <p:nvPr/>
        </p:nvPicPr>
        <p:blipFill>
          <a:blip r:embed="rId1"/>
          <a:stretch/>
        </p:blipFill>
        <p:spPr>
          <a:xfrm>
            <a:off x="1371600" y="0"/>
            <a:ext cx="591984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33520" y="2133720"/>
            <a:ext cx="198108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apill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59680" cy="65530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209680" y="457200"/>
            <a:ext cx="2362320" cy="60948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979560"/>
            <a:ext cx="2359080" cy="1420920"/>
          </a:xfrm>
          <a:custGeom>
            <a:avLst/>
            <a:gdLst/>
            <a:ahLst/>
            <a:rect l="l" t="t" r="r" b="b"/>
            <a:pathLst>
              <a:path w="1486" h="895">
                <a:moveTo>
                  <a:pt x="771" y="11"/>
                </a:moveTo>
                <a:cubicBezTo>
                  <a:pt x="574" y="64"/>
                  <a:pt x="823" y="0"/>
                  <a:pt x="269" y="32"/>
                </a:cubicBezTo>
                <a:cubicBezTo>
                  <a:pt x="201" y="36"/>
                  <a:pt x="124" y="75"/>
                  <a:pt x="59" y="95"/>
                </a:cubicBezTo>
                <a:cubicBezTo>
                  <a:pt x="0" y="185"/>
                  <a:pt x="37" y="246"/>
                  <a:pt x="91" y="326"/>
                </a:cubicBezTo>
                <a:cubicBezTo>
                  <a:pt x="149" y="412"/>
                  <a:pt x="221" y="470"/>
                  <a:pt x="300" y="535"/>
                </a:cubicBezTo>
                <a:cubicBezTo>
                  <a:pt x="385" y="605"/>
                  <a:pt x="255" y="522"/>
                  <a:pt x="415" y="629"/>
                </a:cubicBezTo>
                <a:cubicBezTo>
                  <a:pt x="443" y="648"/>
                  <a:pt x="504" y="701"/>
                  <a:pt x="541" y="713"/>
                </a:cubicBezTo>
                <a:cubicBezTo>
                  <a:pt x="562" y="720"/>
                  <a:pt x="604" y="734"/>
                  <a:pt x="604" y="734"/>
                </a:cubicBezTo>
                <a:cubicBezTo>
                  <a:pt x="677" y="783"/>
                  <a:pt x="646" y="762"/>
                  <a:pt x="698" y="797"/>
                </a:cubicBezTo>
                <a:cubicBezTo>
                  <a:pt x="716" y="809"/>
                  <a:pt x="741" y="808"/>
                  <a:pt x="761" y="818"/>
                </a:cubicBezTo>
                <a:cubicBezTo>
                  <a:pt x="829" y="853"/>
                  <a:pt x="751" y="829"/>
                  <a:pt x="834" y="849"/>
                </a:cubicBezTo>
                <a:cubicBezTo>
                  <a:pt x="980" y="846"/>
                  <a:pt x="1276" y="895"/>
                  <a:pt x="1442" y="786"/>
                </a:cubicBezTo>
                <a:cubicBezTo>
                  <a:pt x="1486" y="656"/>
                  <a:pt x="1470" y="728"/>
                  <a:pt x="1452" y="493"/>
                </a:cubicBezTo>
                <a:cubicBezTo>
                  <a:pt x="1450" y="461"/>
                  <a:pt x="1444" y="428"/>
                  <a:pt x="1431" y="399"/>
                </a:cubicBezTo>
                <a:cubicBezTo>
                  <a:pt x="1407" y="347"/>
                  <a:pt x="1367" y="313"/>
                  <a:pt x="1327" y="273"/>
                </a:cubicBezTo>
                <a:cubicBezTo>
                  <a:pt x="1299" y="245"/>
                  <a:pt x="1270" y="206"/>
                  <a:pt x="1232" y="189"/>
                </a:cubicBezTo>
                <a:cubicBezTo>
                  <a:pt x="1152" y="154"/>
                  <a:pt x="1065" y="137"/>
                  <a:pt x="981" y="116"/>
                </a:cubicBezTo>
                <a:cubicBezTo>
                  <a:pt x="957" y="110"/>
                  <a:pt x="880" y="91"/>
                  <a:pt x="855" y="74"/>
                </a:cubicBezTo>
                <a:cubicBezTo>
                  <a:pt x="829" y="56"/>
                  <a:pt x="794" y="35"/>
                  <a:pt x="761" y="32"/>
                </a:cubicBezTo>
                <a:cubicBezTo>
                  <a:pt x="737" y="29"/>
                  <a:pt x="712" y="32"/>
                  <a:pt x="688" y="32"/>
                </a:cubicBezTo>
                <a:lnTo>
                  <a:pt x="771" y="11"/>
                </a:lnTo>
                <a:close/>
              </a:path>
            </a:pathLst>
          </a:custGeom>
          <a:noFill/>
          <a:ln w="414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Major Ridge Pattern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op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orl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5791320" y="3809880"/>
            <a:ext cx="3008160" cy="27972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3352680" y="1295280"/>
            <a:ext cx="2514600" cy="23558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533520" y="3809880"/>
            <a:ext cx="2971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LOOP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60%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popu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(2) or more ridges entering from one side, curving and exiting on the same s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Co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nter of lo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Type Lin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dges that diver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Delt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osest ridges to type lines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s a triang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5638680" y="3581280"/>
            <a:ext cx="3276720" cy="30704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324480" y="3200400"/>
            <a:ext cx="114300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8109000" y="5347080"/>
            <a:ext cx="1002960" cy="583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924680" y="5791320"/>
            <a:ext cx="304920" cy="3045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01:55:13Z</dcterms:created>
  <dc:creator>fdse</dc:creator>
  <dc:description/>
  <dc:language>en-US</dc:language>
  <cp:lastModifiedBy>Dawn Pav</cp:lastModifiedBy>
  <dcterms:modified xsi:type="dcterms:W3CDTF">2010-10-14T02:29:41Z</dcterms:modified>
  <cp:revision>46</cp:revision>
  <dc:subject/>
  <dc:title>Fingerprinting</dc:title>
</cp:coreProperties>
</file>